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0F2B-D8BA-4DDB-B500-9A912D08E8F2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2573-0CE1-4A0C-A191-91943D35838E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D10E-95E9-4A16-8962-7374A186BAF9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A155-895A-4DAE-9F68-647AABBDAF9E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76D1-FA88-4F22-A8CB-B8BA4A14D30E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3B7E-E032-4002-8D97-1696E3565FA8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7233-83BD-4EC3-A35A-1C8938751CC0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A67F-3E1E-4684-8960-8651067D4965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3479-2626-44FD-8587-912C2D71CA13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0F71-65AF-4299-8FD6-7C683F63628B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9877-6533-4319-BDDA-6F3B3EAEA423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038C-E74C-4676-B194-2B5DF3EDBC0E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F975-A122-4FFA-96A3-82E812DE1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D9A8-92CC-4241-859B-26CD63E66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E0B4-6402-4B2B-9585-52DB56F8C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63AF-4057-42CF-B9EA-31C100D18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4625E-B5D2-4BE6-8B65-9491BAEC0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FAD8-29AF-438A-AD2D-8720C8D7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D7178-B876-44E6-8CC8-99C01EDD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A94A6-4F95-4F03-80F9-2CC5D1F7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28FD4-5B3A-447A-A797-D107EA39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6D049-3E16-416B-83CB-E95EA2DF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EB097-4D61-4570-AEB4-AED357A0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9343-7FA3-4646-8B5E-4E5D0DD8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C39CD-6A47-4B1E-BC1E-C2629CBE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513F0-7CB8-4F15-80C0-CA34F5FD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1B426-C4BD-4EAE-BC49-FD187CC3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005A1-7412-40B6-B618-661595481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0C9C-CC98-46FB-93B4-F61F585E5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D3B2-86FE-4A9A-84C2-9317405B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FD33-35C4-4E04-B4A3-D813ED65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777B-7B3E-4E9D-8B2B-934A7512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BE3E-3CBA-4EE5-8893-4CFBEA3C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3B74-1CB8-47FD-8B45-3F5507D0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8B40-BE74-48EC-B6EF-33E3E03E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82C7-D66D-4F59-A496-72F492F6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828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B4FC-3C86-4CBB-B258-3487A1570C97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1"/>
          <p:cNvGrpSpPr/>
          <p:nvPr/>
        </p:nvGrpSpPr>
        <p:grpSpPr>
          <a:xfrm>
            <a:off x="304920" y="165240"/>
            <a:ext cx="8813520" cy="6692760"/>
            <a:chOff x="304920" y="165240"/>
            <a:chExt cx="8813520" cy="6692760"/>
          </a:xfrm>
        </p:grpSpPr>
        <p:sp>
          <p:nvSpPr>
            <p:cNvPr id="6" name="Rectangle 12"/>
            <p:cNvSpPr/>
            <p:nvPr/>
          </p:nvSpPr>
          <p:spPr>
            <a:xfrm>
              <a:off x="304920" y="165240"/>
              <a:ext cx="5973480" cy="10159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7" name="Rectangle 13"/>
            <p:cNvSpPr/>
            <p:nvPr/>
          </p:nvSpPr>
          <p:spPr>
            <a:xfrm>
              <a:off x="469800" y="304920"/>
              <a:ext cx="6059520" cy="110484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8" name="Line 14"/>
            <p:cNvSpPr/>
            <p:nvPr/>
          </p:nvSpPr>
          <p:spPr>
            <a:xfrm>
              <a:off x="1765440" y="1192320"/>
              <a:ext cx="0" cy="5665680"/>
            </a:xfrm>
            <a:prstGeom prst="line">
              <a:avLst/>
            </a:prstGeom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1015920" y="1079640"/>
              <a:ext cx="8102520" cy="2844720"/>
            </a:xfrm>
            <a:prstGeom prst="pie">
              <a:avLst/>
            </a:pr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1"/>
          <p:cNvGrpSpPr/>
          <p:nvPr/>
        </p:nvGrpSpPr>
        <p:grpSpPr>
          <a:xfrm>
            <a:off x="1015920" y="0"/>
            <a:ext cx="5867640" cy="3822840"/>
            <a:chOff x="1015920" y="0"/>
            <a:chExt cx="5867640" cy="3822840"/>
          </a:xfrm>
        </p:grpSpPr>
        <p:sp>
          <p:nvSpPr>
            <p:cNvPr id="47" name="Rectangle 12"/>
            <p:cNvSpPr/>
            <p:nvPr/>
          </p:nvSpPr>
          <p:spPr>
            <a:xfrm>
              <a:off x="1879560" y="2171880"/>
              <a:ext cx="5004000" cy="165096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8" name="Rectangle 13"/>
            <p:cNvSpPr/>
            <p:nvPr/>
          </p:nvSpPr>
          <p:spPr>
            <a:xfrm>
              <a:off x="2116080" y="1955880"/>
              <a:ext cx="4538880" cy="165096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9" name="Freeform 14"/>
            <p:cNvSpPr/>
            <p:nvPr/>
          </p:nvSpPr>
          <p:spPr>
            <a:xfrm>
              <a:off x="1015920" y="0"/>
              <a:ext cx="1084320" cy="2768760"/>
            </a:xfrm>
            <a:prstGeom prst="pie">
              <a:avLst/>
            </a:prstGeom>
            <a:noFill/>
            <a:ln w="9360">
              <a:solidFill>
                <a:srgbClr val="446e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50" name="Freeform 15"/>
            <p:cNvSpPr/>
            <p:nvPr/>
          </p:nvSpPr>
          <p:spPr>
            <a:xfrm>
              <a:off x="1219320" y="0"/>
              <a:ext cx="660240" cy="3219480"/>
            </a:xfrm>
            <a:prstGeom prst="pie">
              <a:avLst/>
            </a:pr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73148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25909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446eb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9469-764E-4CE7-A451-75A66E7B7B5E}" type="slidenum">
              <a:rPr b="0" lang="en-CA" sz="1000" spc="-1" strike="noStrike">
                <a:solidFill>
                  <a:srgbClr val="446eb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09320" y="2057400"/>
            <a:ext cx="4343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123e96"/>
                </a:solidFill>
                <a:latin typeface="Arial Black"/>
              </a:rPr>
              <a:t>Facing </a:t>
            </a:r>
            <a:br>
              <a:rPr sz="5400"/>
            </a:br>
            <a:r>
              <a:rPr b="0" lang="en-CA" sz="5400" spc="-1" strike="noStrike">
                <a:solidFill>
                  <a:srgbClr val="123e96"/>
                </a:solidFill>
                <a:latin typeface="Arial Black"/>
              </a:rPr>
              <a:t>Facebook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09680" y="4038120"/>
            <a:ext cx="4191120" cy="16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UWindsor students need to know…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Who Can See My Profile?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834920" y="1285920"/>
            <a:ext cx="623700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Although it can feel private, it is a      </a:t>
            </a:r>
            <a:r>
              <a:rPr b="0" i="1" lang="en-CA" sz="2600" spc="-1" strike="noStrike">
                <a:solidFill>
                  <a:srgbClr val="446eb2"/>
                </a:solidFill>
                <a:latin typeface="Arial"/>
              </a:rPr>
              <a:t>very</a:t>
            </a: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 public forum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People share photos, look at profiles  in public places, and view friends’, and friends’ of friends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Your “friends” may not have the same level of privacy settings as you thereby making your information accessible to more people than you think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Read the fine print “Facebook’s Privacy Policy” and “Safe Use Principles”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How Well Do You Really Know Your “Friends”?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828440" y="1571760"/>
            <a:ext cx="5815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Don’t focus on trying to acquire as many “friends” as possibl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Be selective OR consider “customizing” your privacy for those who are not “close friends”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gnoring a friend request is perfectly okay if you aren’t sur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70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Think About It . . . 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42680" y="1413000"/>
            <a:ext cx="60721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o’s looking over your “friends’” shoulders while they are looking at your profile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Many employers look up potential employees on Facebook to get a better understanding of the applicant.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Consider this: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446eb2"/>
                </a:solidFill>
                <a:latin typeface="Arial"/>
              </a:rPr>
              <a:t>http://www.cbsnews.com/stories/2006/06/20/eveningnews/main1734920.shtml?source=RSS&amp;attr=SciTech_1734920</a:t>
            </a: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Think About It . . .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828440" y="1676160"/>
            <a:ext cx="5815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Bikini clad, beer chuggers will not impress a recruiter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Even if your profile is closed, people who know people can inadvertently encounter your information –it’s a small world!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Parts of your profile can remain accessible to the World Wide Web in more ways than you might realize –a mere “google search” can turn up a lot of information about you from the past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8fab0"/>
                </a:solidFill>
                <a:latin typeface="Arial Black"/>
              </a:rPr>
              <a:t>Groups and Your Association With Them:</a:t>
            </a:r>
            <a:endParaRPr b="0" lang="en-US" sz="24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63640" y="1413000"/>
            <a:ext cx="6166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Maybe you work at Tim Horton’s and you join the group “Outraged Tim Horton’s Staff Unite: We know how much it REALLY sucks”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ould this leave a good impression if your boss saw your profile? 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about future employers who might be watching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You, the role model….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828800" y="1676520"/>
            <a:ext cx="5958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Perhaps you are in a mentorship role?  (Leader, coach, scout leader, volunteer at a school)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Your mentee goes home and looks you up on Facebook and sees you in unflattering photo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message are you sending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Attention: Everyone</a:t>
            </a:r>
            <a:r>
              <a:rPr b="0" lang="en-CA" sz="24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828440" y="1412640"/>
            <a:ext cx="6100920" cy="51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Although your online activity is   not likely to be monitored, you could be held accountable if you are engaged in questionable behaviour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you wouldn’t put on a poster for all to see (including grandparents and professors), you might want to think twice about posting onlin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Did Someone Say Police?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14680" y="1676520"/>
            <a:ext cx="628632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At some institutions, following an incident such as a party that gets out of hand, campus and city police have found information or photos on Facebook that may provide incriminating evidence about the individuals involved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Underage drinking, keg parties, acts of vandalism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Misinterpretations 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63280" y="1413000"/>
            <a:ext cx="5410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Think about how the content on your Facebook could be interpreted or misinterpreted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may seem like a joke to you and your friends, could be seen as serious by someone else.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Addicted to Facebook?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63280" y="1413000"/>
            <a:ext cx="5410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Stories of Facebook addiction are also common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Did you know that Facebook gets more than 65 billion page views per month and more than half of active users return daily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Some students log in to their profiles several times a day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Remember why you are at University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568152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What can Facebook Do For You?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56880" y="1428840"/>
            <a:ext cx="70009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Help you to connect or reconnect        with friend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tay in touch with long distance relationship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hare photos, videos, information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Join groups with like minded peopl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Addicted to Facebook?</a:t>
            </a:r>
            <a:r>
              <a:rPr b="0" lang="en-CA" sz="32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828800" y="1676160"/>
            <a:ext cx="541008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How much time are you “Facebooking” every day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Are you using it wisely?  Is it controlling your every move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How might this affect your work, school, and social life?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Fighting the Addiction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63280" y="1412640"/>
            <a:ext cx="554508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ace to Face vs. Facebook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Don’t kid yourself –logout or turn off your computer when you’re studying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t goals –what do you need to accomplish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ime allocation –give yourself time limits –use it as a reward after you accomplish your goal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Look at the Bright Side 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63640" y="1412640"/>
            <a:ext cx="5400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Creating or refining one’s self identity and values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Use it to build connections with peers and create civility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Connect with people and groups that foster a positive sense of community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Learn to use technology in creative and useful ways 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86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800" spc="-1" strike="noStrike">
              <a:solidFill>
                <a:srgbClr val="e8fab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6100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The YouTube clip below helps to illustrate that although there are many positive uses for Facebook, sometimes, users may get carried away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e8fab0"/>
                </a:solidFill>
                <a:uFillTx/>
                <a:latin typeface="Arial"/>
                <a:hlinkClick r:id="rId1" action="ppaction://hlinksldjump"/>
              </a:rPr>
              <a:t>http://www.youtube.com/watch?v=nrlSkU0TFL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Don’t Be a Facebook Fool!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A Google search of “Facebook cautions” provides many articles and tips on using Facebook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Be informed and use it wisely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824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What can Facebook Do For You?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828440" y="1676520"/>
            <a:ext cx="5886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nvite people to ev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ommunity building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Get up-to-the-minute information on people or ev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Make you have a sense of belonging and provide social interaction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6610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How Can Facebook Impact You Negatively?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857240" y="1413000"/>
            <a:ext cx="6143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Friends –knowing too much about    you and you about them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Posting inappropriate photos and      not having control on photos posted of you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Joining groups that may reflect poorly on your choices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Postings on walls that may use         foul language or reflect poorly on you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What Does it Really Matter Anyway?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t’s nobody’s business –it’s my private world!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Right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Not really…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396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Privacy? Is there such a thing?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857240" y="1499760"/>
            <a:ext cx="58579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Employer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ex-girlfriend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boyfriend’s par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academic advisor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professor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reference for your next job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mother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roommate’s par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e guy down the street who gives you the creep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Information to Avoid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828800" y="1676520"/>
            <a:ext cx="541008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“Info” page: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your birthdate (especially the year of your birth) can make you more susceptible to fraud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Your address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Contact info, cell phone, etc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Your schedule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Groups associated with -(be careful if they are offensive)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From a Professional Perspective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5600" y="1413000"/>
            <a:ext cx="5643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Is it just for fun, or are there people viewing my profile who may be judging me?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If you say it to one person on Facebook, you say it to the whole world.”</a:t>
            </a: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But I Have the “Privacy” Setting Turned on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71760" y="1676160"/>
            <a:ext cx="628632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s it set to only “friends” or can the entire “University Community” gain access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People at Windsor and friends” –means ANYONE associated with the U could potentially see your profile –even Alumni –ie employers, professors, etc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Friends of friends”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Only friends” –those you invite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Customize” –most secure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18:49:47Z</dcterms:created>
  <dc:creator>edcstudent</dc:creator>
  <dc:description/>
  <dc:language>en-US</dc:language>
  <cp:lastModifiedBy>edcuser</cp:lastModifiedBy>
  <dcterms:modified xsi:type="dcterms:W3CDTF">2009-08-20T15:58:06Z</dcterms:modified>
  <cp:revision>130</cp:revision>
  <dc:subject/>
  <dc:title>FACEBOOK  &amp; YO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21033</vt:lpwstr>
  </property>
</Properties>
</file>